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10.gif" ContentType="image/gif"/>
  <Override PartName="/ppt/media/image9.wmf" ContentType="image/x-wmf"/>
  <Override PartName="/ppt/media/image11.gif" ContentType="image/gif"/>
  <Override PartName="/ppt/media/image12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654-8580-4FF4-B84E-50D45864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379-288B-44C4-BBD9-9396CF12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74C-2C13-4B28-9920-BB01B1C7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249-0288-484F-9C04-AC7424ED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9DCF-30AA-4901-86C6-BAE06B3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763F-9E2D-49DA-A7C4-C5D8C65D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A474-7A94-483C-B457-76DB46D5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2B8-AB47-4574-84DF-297032BF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F993-9EC4-4301-9E51-72B73498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CC5F-4745-4612-B20D-21727B2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A57-275D-4B76-B284-D28F2D3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9F4-344F-49C9-90F2-7A13636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D436-B117-4C81-97C0-6CAD0151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636-E013-4EEA-A0AB-E74B62B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CC98-147C-4E23-A1A6-C795A47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7EA-7E06-4F4F-8A7E-09AB0F70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E814-DDFA-468A-A748-ABEDD6A3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C74A-B0F3-4FA5-A261-32C7660A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DDFED-B321-4413-8147-BD27362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4EDF-3BCD-4A33-88A1-EA3862E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A2D2B-95CB-4211-9F4B-32776CAE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3C63-8CE9-451B-8066-EBCFD16C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F45B-B5D8-4119-A2BA-42C9975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0A1A-EB0C-4613-968F-9BA0EADE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D4A44-0D42-4EA2-AC40-DA99CAF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59E0-359D-409B-82F1-35EFBAE7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A2A7B-DFF5-4A74-BD5D-1CAAC8C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C004-9C8E-4BB7-B719-7D01F7F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FF08-5A73-460E-9819-37AFC17A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E57F-2BE0-4884-937D-44C150C2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B226-E1B8-418C-8B34-44C87E61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B727-2CDA-4ADB-92D7-E852408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3DDE7-9BEF-4BDB-BCAB-8260C171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03D-8917-4DA5-BC53-11A4CFD7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EEF4-A85F-4C84-94FD-7592D830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3B5E-60D3-4A0F-86D0-BD97F789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5136-631C-4678-9821-809D15C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DFDF-E6C0-437F-A5F1-E79224C6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CBCD-BB70-4321-918A-EB8E428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74718-6E98-4343-8CF5-746618DC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9BC7-5BAB-499A-9B95-D823D208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E1843-C4C3-494D-958F-C99D9946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268A-5C26-4AAC-8FA3-2E3C6D8F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14A-13BE-487B-BF03-153BF105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E1A-20EE-4E6A-BBCA-F17D197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93F-A12D-47F1-BFE1-AF18B674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781-A6D5-483B-A2E0-0BD67D7C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819-94FC-4390-9B31-FEDB9C3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731A-C060-481A-B5BF-90FE09A520ED}" type="slidenum">
              <a:rPr b="0" lang="en-A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00F-C42C-42CA-AAE1-01ED1732664A}" type="slidenum">
              <a:rPr b="0" lang="en-A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4e7e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4e7e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9dce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e9dce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866-1FFD-4B6A-9660-EEF82751A29F}" type="slidenum">
              <a:rPr b="0" lang="en-AU" sz="1200" spc="-1" strike="noStrike">
                <a:solidFill>
                  <a:srgbClr val="e9dc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93c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a93c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F77-BBD4-4AB9-8826-ADF6DEC7A2B7}" type="slidenum">
              <a:rPr b="0" lang="en-AU" sz="1200" spc="-1" strike="noStrike">
                <a:solidFill>
                  <a:srgbClr val="a93c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29600" cy="1543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643040" y="1356840"/>
            <a:ext cx="6400800" cy="4643640"/>
          </a:xfrm>
          <a:prstGeom prst="rect">
            <a:avLst/>
          </a:prstGeom>
          <a:noFill/>
          <a:ln w="9360">
            <a:solidFill>
              <a:srgbClr val="b83d68"/>
            </a:solidFill>
            <a:miter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2" action="ppaction://hlinksldjump"/>
              </a:rPr>
              <a:t>Grav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3" action="ppaction://hlinksldjump"/>
              </a:rPr>
              <a:t>Lift</a:t>
            </a:r>
            <a:br>
              <a:rPr sz="2600"/>
            </a:b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4" action="ppaction://hlinksldjump"/>
              </a:rPr>
              <a:t>Drag</a:t>
            </a:r>
            <a:br>
              <a:rPr sz="2600"/>
            </a:br>
            <a:r>
              <a:rPr b="0" lang="en-AU" sz="2600" spc="-1" strike="noStrike" u="sng">
                <a:solidFill>
                  <a:srgbClr val="ffde66"/>
                </a:solidFill>
                <a:uFillTx/>
                <a:latin typeface="Constantia"/>
                <a:hlinkClick r:id="rId5" action="ppaction://hlinksldjump"/>
              </a:rPr>
              <a:t>Thrust</a:t>
            </a:r>
            <a:br>
              <a:rPr sz="2600"/>
            </a:br>
            <a:r>
              <a:rPr b="0" lang="en-AU" sz="2600" spc="-1" strike="noStrike">
                <a:solidFill>
                  <a:srgbClr val="ffff00"/>
                </a:solidFill>
                <a:latin typeface="Constantia"/>
              </a:rPr>
              <a:t>Flaps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66"/>
                </a:solidFill>
                <a:latin typeface="Calibri"/>
              </a:rPr>
              <a:t>Gravity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ff0066"/>
                </a:solidFill>
                <a:latin typeface="Constantia"/>
              </a:rPr>
              <a:t>The force that causes everything to fall towards the centre of the earth.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ff0066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C:\Program Files\Microsoft Office\Media\CntCD1\ClipArt3\j0233183.wmf"/>
          <p:cNvPicPr/>
          <p:nvPr/>
        </p:nvPicPr>
        <p:blipFill>
          <a:blip r:embed="rId1"/>
          <a:stretch/>
        </p:blipFill>
        <p:spPr>
          <a:xfrm>
            <a:off x="5929200" y="4071960"/>
            <a:ext cx="2928960" cy="222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cc00ff"/>
                </a:solidFill>
                <a:latin typeface="Calibri"/>
              </a:rPr>
              <a:t>Lif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cc00cc"/>
                </a:solidFill>
                <a:latin typeface="Constantia"/>
              </a:rPr>
              <a:t>To raise or bring something upwards.</a:t>
            </a:r>
            <a:br>
              <a:rPr sz="2600"/>
            </a:br>
            <a:r>
              <a:rPr b="0" lang="en-AU" sz="2600" spc="-1" strike="noStrike">
                <a:solidFill>
                  <a:srgbClr val="cc00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C:\Program Files\Microsoft Office\Media\CntCD1\ClipArt3\j0239043.wmf"/>
          <p:cNvPicPr/>
          <p:nvPr/>
        </p:nvPicPr>
        <p:blipFill>
          <a:blip r:embed="rId1"/>
          <a:stretch/>
        </p:blipFill>
        <p:spPr>
          <a:xfrm>
            <a:off x="6000840" y="4000680"/>
            <a:ext cx="2643120" cy="21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ff00"/>
                </a:solidFill>
                <a:latin typeface="Calibri"/>
              </a:rPr>
              <a:t>Drag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0ff00"/>
                </a:solidFill>
                <a:latin typeface="Constantia"/>
              </a:rPr>
              <a:t>To pull something slowly or fa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5" descr="C:\Program Files\Microsoft Office\Media\CntCD1\ClipArt3\j0234309.wmf"/>
          <p:cNvPicPr/>
          <p:nvPr/>
        </p:nvPicPr>
        <p:blipFill>
          <a:blip r:embed="rId1"/>
          <a:stretch/>
        </p:blipFill>
        <p:spPr>
          <a:xfrm>
            <a:off x="5429160" y="3929040"/>
            <a:ext cx="3143520" cy="20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000ff"/>
                </a:solidFill>
                <a:latin typeface="Calibri"/>
              </a:rPr>
              <a:t>Thrus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r>
              <a:rPr b="0" lang="en-AU" sz="2600" spc="-1" strike="noStrike">
                <a:solidFill>
                  <a:srgbClr val="0000ff"/>
                </a:solidFill>
                <a:latin typeface="Constantia"/>
              </a:rPr>
              <a:t>To force or push hard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0000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C:\Program Files\Microsoft Office\Media\CntCD1\Animated\j0284039.gif"/>
          <p:cNvPicPr/>
          <p:nvPr/>
        </p:nvPicPr>
        <p:blipFill>
          <a:blip r:embed="rId1"/>
          <a:stretch/>
        </p:blipFill>
        <p:spPr>
          <a:xfrm>
            <a:off x="5786280" y="3214800"/>
            <a:ext cx="2928960" cy="253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3300"/>
                </a:solidFill>
                <a:latin typeface="Calibri"/>
              </a:rPr>
              <a:t>Flaps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list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AU" sz="2600" spc="-1" strike="noStrike">
                <a:solidFill>
                  <a:srgbClr val="ff3300"/>
                </a:solidFill>
                <a:latin typeface="Constantia"/>
              </a:rPr>
              <a:t>To move up and d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4" descr="C:\Program Files\Microsoft Office\Media\CntCD1\Animated\j0288894.gif"/>
          <p:cNvPicPr/>
          <p:nvPr/>
        </p:nvPicPr>
        <p:blipFill>
          <a:blip r:embed="rId1"/>
          <a:stretch/>
        </p:blipFill>
        <p:spPr>
          <a:xfrm>
            <a:off x="714240" y="3929040"/>
            <a:ext cx="2357640" cy="18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Program Files\Microsoft Office\Media\CntCD1\Animated\j0336836.gif"/>
          <p:cNvPicPr/>
          <p:nvPr/>
        </p:nvPicPr>
        <p:blipFill>
          <a:blip r:embed="rId2"/>
          <a:stretch/>
        </p:blipFill>
        <p:spPr>
          <a:xfrm>
            <a:off x="5572080" y="3857760"/>
            <a:ext cx="2405160" cy="196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1:41:31Z</dcterms:created>
  <dc:creator>Education</dc:creator>
  <dc:description/>
  <dc:language>en-US</dc:language>
  <cp:lastModifiedBy>Education</cp:lastModifiedBy>
  <dcterms:modified xsi:type="dcterms:W3CDTF">2009-08-28T05:11:49Z</dcterms:modified>
  <cp:revision>10</cp:revision>
  <dc:subject/>
  <dc:title>FLIGHT GLOSSERY</dc:title>
</cp:coreProperties>
</file>